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01200" cy="73152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lling Homework Ant. Complete three in a row. All work should be completed in homework journal, unless stated otherwise.Due: 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5B5F1B9-D182-488B-8C39-D9FFE4DDDF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84320" y="514440"/>
            <a:ext cx="337536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7E7F817-B12F-4AD6-BD25-C4195B492A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2884320" y="514440"/>
            <a:ext cx="3375360" cy="25718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437AF41-9B45-4206-8390-7F3A101B6C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Header Placeholder 4"/>
          <p:cNvSpPr/>
          <p:nvPr/>
        </p:nvSpPr>
        <p:spPr>
          <a:xfrm>
            <a:off x="0" y="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lling Homework Ant. Complete three in a row. All work should be completed in homework journal, unless stated otherwise.Due: 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22B7-B0CA-4A53-AAF0-A36FB4589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42282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B940-7ADD-486F-B576-E173F8CF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4870-BAAA-4800-8481-683AC76E5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17064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4228200"/>
            <a:ext cx="27824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7BCB-48AD-4AD6-A118-F675635B0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AC01-F8F8-4F7B-B37B-E452C081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BB25-699B-4A8A-BBA9-E5DAF84E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9000-E898-4D51-B865-DB2B89AF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72BC-52D1-4392-B605-392F1044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293760"/>
            <a:ext cx="86421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2DF7-7EEB-423F-8567-2B66BE24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78A7-3AE6-4E28-9AE6-24917761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42282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E59D-974F-45B9-BEF4-F0192A4A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1706400"/>
            <a:ext cx="421704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4228200"/>
            <a:ext cx="8642160" cy="2302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DA9A-7849-492A-92E2-FC3D3034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293760"/>
            <a:ext cx="8642160" cy="121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1706400"/>
            <a:ext cx="864216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-3618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84080" indent="-30132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2" marL="1208160" indent="-2412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3" marL="1690560" indent="-24120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4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5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6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6780240"/>
            <a:ext cx="224136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49CDEE4-95CC-4BDF-9160-07198EA07D2F}" type="datetime">
              <a:rPr b="0" lang="en-US" sz="13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6780240"/>
            <a:ext cx="304200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6780240"/>
            <a:ext cx="2241360" cy="38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257123B-6592-4D00-93A6-FDBD7887113F}" type="slidenum">
              <a:rPr b="0" lang="en-US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4"/>
          <p:cNvSpPr/>
          <p:nvPr/>
        </p:nvSpPr>
        <p:spPr>
          <a:xfrm>
            <a:off x="0" y="2666880"/>
            <a:ext cx="960120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5"/>
          <p:cNvSpPr/>
          <p:nvPr/>
        </p:nvSpPr>
        <p:spPr>
          <a:xfrm>
            <a:off x="0" y="4952880"/>
            <a:ext cx="960120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7"/>
          <p:cNvSpPr/>
          <p:nvPr/>
        </p:nvSpPr>
        <p:spPr>
          <a:xfrm flipH="1">
            <a:off x="3200400" y="685800"/>
            <a:ext cx="7920" cy="66294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9"/>
          <p:cNvSpPr/>
          <p:nvPr/>
        </p:nvSpPr>
        <p:spPr>
          <a:xfrm>
            <a:off x="6553080" y="685800"/>
            <a:ext cx="6480" cy="66308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1"/>
          <p:cNvSpPr/>
          <p:nvPr/>
        </p:nvSpPr>
        <p:spPr>
          <a:xfrm>
            <a:off x="152280" y="685800"/>
            <a:ext cx="2971800" cy="42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urrent Skill: Phonics (Vowel Pairs ai and ay) Categorize spelling words or words from the text that have the above vowel pai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(ex. cr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ay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n, pl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ai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n) Under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ine vow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airs.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6629400" y="2746440"/>
            <a:ext cx="29718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honics: Suffixes –ly and –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Use the words below to make new words by adding –ly or –ful.  Then use each new word in a sentence.  Underline your new word. (ex. play, playful;The puppy was very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playful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(loud, sad, hope, grace, pain, prou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Initials________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3200400" y="4952880"/>
            <a:ext cx="335268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urrent skill:  Plural Nou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ome nouns are spelled differently when they name more than o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Write the plural for the following nouns.  Then write a sentence for each one.  (ex. man, men; There were  three men in the store.)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 wife, child, woman, person, knife, life)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itials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4"/>
          <p:cNvSpPr/>
          <p:nvPr/>
        </p:nvSpPr>
        <p:spPr>
          <a:xfrm>
            <a:off x="6629400" y="762120"/>
            <a:ext cx="272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7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elling (.) sentence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bout a story you are reading. Each sentence must use a spelling word. Underline the spelling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5"/>
          <p:cNvSpPr/>
          <p:nvPr/>
        </p:nvSpPr>
        <p:spPr>
          <a:xfrm>
            <a:off x="152280" y="2746440"/>
            <a:ext cx="2640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7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question (?) sentence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 be answered by a story’s main character. Each sentence must use a spelling word. Underline the spelling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6"/>
          <p:cNvSpPr/>
          <p:nvPr/>
        </p:nvSpPr>
        <p:spPr>
          <a:xfrm>
            <a:off x="3352680" y="1219320"/>
            <a:ext cx="256068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each word 3 times in your best handwri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0" y="525780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inbow Spell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udents may type (preferred) or write each word with vowels and consonants in a different font style or col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8"/>
          <p:cNvSpPr/>
          <p:nvPr/>
        </p:nvSpPr>
        <p:spPr>
          <a:xfrm>
            <a:off x="3321000" y="2870280"/>
            <a:ext cx="29592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e a friendly letter to a friend.  Choose to whom you will write your letter.  Decide what  you will write about ( school, winter break, pet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clude details in your letter.  Don’t forget to include a date, greeting, closing, and your name as the wri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9"/>
          <p:cNvSpPr/>
          <p:nvPr/>
        </p:nvSpPr>
        <p:spPr>
          <a:xfrm>
            <a:off x="6781680" y="5029200"/>
            <a:ext cx="2560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ite 5 sentences that use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quotation (“ ”) marks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 show someone speaking. Write a conversation by the characters in your read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2"/>
          <p:cNvSpPr/>
          <p:nvPr/>
        </p:nvSpPr>
        <p:spPr>
          <a:xfrm>
            <a:off x="0" y="0"/>
            <a:ext cx="9372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pelling Homework for Big Bushy Mustache.</a:t>
            </a:r>
            <a:r>
              <a:rPr b="0" i="1" lang="en-US" sz="1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udents must complete Tic-Tac-Toe (three in a row – and they must use the center square). All work should be completed in the student’s homework journal. The journal, with completed work,  and the board, with parent initials are due: __________________________________________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3"/>
          <p:cNvSpPr/>
          <p:nvPr/>
        </p:nvSpPr>
        <p:spPr>
          <a:xfrm>
            <a:off x="1447920" y="228600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nitials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6"/>
          <p:cNvSpPr/>
          <p:nvPr/>
        </p:nvSpPr>
        <p:spPr>
          <a:xfrm>
            <a:off x="4800600" y="2209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7"/>
          <p:cNvSpPr/>
          <p:nvPr/>
        </p:nvSpPr>
        <p:spPr>
          <a:xfrm>
            <a:off x="8001000" y="228600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8"/>
          <p:cNvSpPr/>
          <p:nvPr/>
        </p:nvSpPr>
        <p:spPr>
          <a:xfrm>
            <a:off x="1371600" y="4495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9"/>
          <p:cNvSpPr/>
          <p:nvPr/>
        </p:nvSpPr>
        <p:spPr>
          <a:xfrm>
            <a:off x="4876920" y="449568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1"/>
          <p:cNvSpPr/>
          <p:nvPr/>
        </p:nvSpPr>
        <p:spPr>
          <a:xfrm>
            <a:off x="1447920" y="691524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3"/>
          <p:cNvSpPr/>
          <p:nvPr/>
        </p:nvSpPr>
        <p:spPr>
          <a:xfrm>
            <a:off x="7848720" y="6705720"/>
            <a:ext cx="16002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rent Initials: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9:59:54Z</dcterms:created>
  <dc:creator> </dc:creator>
  <dc:description/>
  <dc:language>en-US</dc:language>
  <cp:lastModifiedBy>Mits Mits</cp:lastModifiedBy>
  <cp:lastPrinted>2010-01-04T20:00:09Z</cp:lastPrinted>
  <dcterms:modified xsi:type="dcterms:W3CDTF">2010-01-04T21:05:22Z</dcterms:modified>
  <cp:revision>29</cp:revision>
  <dc:subject/>
  <dc:title>Slide 1</dc:title>
</cp:coreProperties>
</file>